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DB6-2F11-4014-906D-339448ED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527-2CBC-4C6C-9825-8DD2576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D64-A700-48FF-9410-7ED80EC1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30B-5E74-421A-AACB-07CE3E3D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968-33AB-4EAD-A2DF-C05BB33D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7DE-5C79-429C-9E60-FAFBFAA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305-F6DB-4019-8551-CA563800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E0D-17A4-4BD4-B717-21499A09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017-0F06-4F9D-BA65-60807D4C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730-B3CB-4B37-A671-92F8E68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4F9-9E46-42AE-8BDB-7282306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BA7-4EF3-4D86-9E43-FC26445E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B6A61-DDF1-46D8-BDC6-CC51A533F99A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4T09:40:46Z</dcterms:created>
  <dc:creator>櫻井 和人</dc:creator>
  <dc:description/>
  <dc:language>en-US</dc:language>
  <cp:lastModifiedBy>櫻井 和人</cp:lastModifiedBy>
  <dcterms:modified xsi:type="dcterms:W3CDTF">2018-02-19T12:23:11Z</dcterms:modified>
  <cp:revision>5</cp:revision>
  <dc:subject/>
  <dc:title>PowerPoint プレゼンテーション</dc:title>
</cp:coreProperties>
</file>