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C1E-D808-469A-9288-2FEF52D5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987-AD79-409C-B364-4DCF51A9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1C1-4FEB-4A9E-89DA-FF94F932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915-896B-495F-9678-2BF21CD1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C7D-1240-4D7B-9E66-45835E33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2D5-098B-4045-AD70-DE692314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2C8-BA22-43EA-ACCD-04F916C3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927-7F0F-437B-B396-46EEACC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458-BEE8-4FC8-B8E9-D1836B7C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0D4-8746-4775-818C-B12EED31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557-B7F8-4121-AB62-0FAD166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37D-F627-4291-9F9B-4CAFA83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55B3A-F7B8-4E76-9700-086460696797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4T09:40:46Z</dcterms:created>
  <dc:creator>櫻井 和人</dc:creator>
  <dc:description/>
  <dc:language>en-US</dc:language>
  <cp:lastModifiedBy>櫻井 和人</cp:lastModifiedBy>
  <dcterms:modified xsi:type="dcterms:W3CDTF">2018-02-21T09:36:32Z</dcterms:modified>
  <cp:revision>6</cp:revision>
  <dc:subject/>
  <dc:title>PowerPoint プレゼンテーション</dc:title>
</cp:coreProperties>
</file>